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28D-C242-4CB4-9D24-202CD026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6C5-4909-4175-9EC2-F0063AC1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29077-155F-4377-AB1C-923D075C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9162C-8560-4812-AB51-48FDC043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5C174-B57D-4093-9FE0-6AB3506F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049D5-A33E-48C7-88F3-8284863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FD3BC-9C98-4643-AAE6-2933CB2B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03160-EA58-4DE5-B7C6-E78AB52A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DF349-8D3B-4267-8B93-B5633718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CF4C9-10A9-46F4-952A-F0F1E7A5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B2570-E279-4005-9AA1-B45D0596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946F5-DCED-49F6-865B-DD4068BE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716-A99B-4F15-AD1F-F702258F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7846B-55E2-4455-8EC0-40B08F61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2E40D-1CA5-4C9F-950D-3F5874D8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167E6-4CFC-4C0F-AAAF-54E45672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342FF-335B-4B6F-BCC7-DA486B6A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2C703-8E15-44F3-AA8D-24582732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081FF-BAED-4A81-BB44-3424649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B73F4-C1FB-4290-8907-3046397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DEDC5-022D-46A4-83A8-E1128A6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A6524-034F-4B02-96C5-9C553690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C766-5DE6-4B30-8F63-2B097429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331-0DC3-48B5-B898-913CB13B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DDC4C-F8E6-48EB-9A15-F8A427A0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9C5EE-7E5C-4978-B2B9-89542913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2644D-F2B8-4008-9123-3D232716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4DBE9-0702-4D5C-8912-EC9DEC68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4BBB8-8B3C-4643-B0EC-0BDC32EF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4DDE6-2320-45FE-967E-FB4C99BC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7767F-866D-404B-8218-FC65124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88C23-601E-4B8F-BC12-62655EF8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5B5D0-B211-4A86-A10F-64D78670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12FB2-2EBF-4C39-8405-0127FEC0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695E-089F-430E-8F0E-A7CD291D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916C2-AAB3-4E5A-A58E-FB8AAEB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F24B0-9F14-4B42-95BA-39312BFB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84D05-3371-438F-8EAE-C8A963E1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D2973-F30F-4646-B367-51E5DC20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501E0-1CE9-4CB4-9AAB-EB17CD4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EF91B-21F8-45F0-B462-59289BA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14425-8284-4FDE-8025-A8216FDB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1B36F-27FE-4CC5-A294-3C75368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CBBB5-CAD9-44F5-8FA0-7F229FF1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E7A34-1323-4D39-A3EA-760B21DD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9B06-E19A-4D4F-8E5F-3C2A571D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38C1B-6034-42C5-BAC4-A55D47C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E1482-DAA0-499C-867F-69FED03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05ED8-19F6-41D2-9179-DA282AFC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991F0-AE4A-4D66-93B5-F7BB1B51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3D1B7-C04A-4EAA-B26E-BED49592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9D62C-745E-47C7-9ED9-8180B7D0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E475B-D0A8-48BB-A03A-43370414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F0A46-3F18-476B-801F-26BF08FD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B80CE-BB6A-4E0B-8B3C-6EF08557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B2CA7-56FB-49E0-A718-F51965C0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AEAD-7A78-47EF-B569-DBD8AFAE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3C3ED-4E30-47AA-BB25-19A51D37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1B8CA-A8A5-4A3B-A6DD-2878121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36D86-0938-4FAD-9245-9085A22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2C87D-AC0F-49DC-828A-86B77E52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1BDA4-3C3A-4CAD-A99F-CCCB13C1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DA61B-9604-4E43-91BC-A8262F85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8A673-4440-461C-B2CD-B3CE3037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078E3-3108-47D3-9B56-5B37F937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8B914-8A30-44DB-A0D8-DDA1277E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4DBA8-AD94-413E-A983-88C86197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FE0C-CB82-4792-BFE2-1ADB702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79BC7-5774-406E-8DF3-A17E8E94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1DFA4-0DB6-4DFE-AD00-78E73CCB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41DC0-0AED-4218-B659-89E37DC8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39DF0-3912-4BEF-A383-37FE888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F6532-E3B2-4C7A-9330-4EEBFF5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5AD06-2ED9-4700-BAB7-FD54DEB8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E7312-AD86-4D04-A883-CE65E43A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A0FB4-059E-4284-96DB-480F07F4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41BC6-C088-4346-A0C8-54544135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63FF2-9423-4152-ABC7-B7B5EE9D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A3D9-C768-4270-9DCF-B4CA03AF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DA17A-7DFB-48C7-A4EC-4957EDFC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66237-BA17-4C6B-A038-6C5D4D8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56CA4-4459-45B4-98EE-D87B3B51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98BC6-1783-4EE3-AA15-EE5A8CE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27EBE-A025-4060-9E5B-167C6AAC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15605-03FD-440D-BBF1-66898150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6E0D0-2FFD-44AF-AB55-3072E08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914FA-3D49-4425-ACD9-16784F97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57A26-2300-42AE-89AE-5B5FD963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DBD3C-A231-4976-A357-9ABBD0EB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C358-52E4-4A63-9E29-9A54D93A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A9415-9DFF-4409-B707-193EA20A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BEE23-57D7-4323-A9AE-45CD0B75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6547F-DF41-4F11-81AA-FEB021DE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689FB-0C41-4C47-B905-76AF4B5D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73A46-3A5E-4562-80AD-CC95A758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95719-ACF0-4C4D-BB48-2104F3CA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0AC4A-8CF9-445D-98B4-79B1A949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758D3-A900-4D39-A396-81988BED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636C2-92C3-4DAF-AC65-7B508A99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65904-866A-4044-A68C-C2795F8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EE7D-419C-44E2-916D-5A047E6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5B834-01CF-4A7E-9D1B-6B0DAE58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D4BBE-B7CA-448C-BCE5-9D04C86A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0C84E-82F9-48A2-9271-5514EB40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3C6C9-BD22-492E-A1D6-3367715B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32327-EF34-49AC-ADED-F42301F2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72F30-CD78-4766-9B88-A6939526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61C78-EE53-475A-8A78-DC0CAE9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33774-4DFA-4FBB-B2D6-B5578F26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6808D-D828-41DF-B44A-ABAD0A54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1E906-B739-4736-A51E-3AFA9D9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4A4-E7E4-4269-AE30-584E459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E3D8-E478-4363-853C-049E9DE9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DFD9B-F331-4E60-8709-DAEDA7E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87460-B878-4BE9-98A3-14C2B6B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9EB2B-26BC-4EEA-A65E-DF63A305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0F5AD-377F-4DF9-A9C6-3E0F5EF2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E2251-B220-461F-8069-98E18B6F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CFDCA-3363-464B-8007-3825DDA7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76CD9-CF63-4C2D-B985-CED643BA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E7FF8-C6C7-41AD-9EC5-AF87749B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076F65-A452-4743-B038-0B7C9649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74C35-4BA0-44ED-8925-851F951E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B724-9E86-42D0-BA8B-F1194547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E0579-E975-4E58-8DFC-153DD10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F8DED-C4C4-47B9-9E5E-41DCCE1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6EA757-4A1A-429D-86C7-ADA405F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607A9-18FD-4DF0-AB82-58714B8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7DEC7-C8C4-4AA8-B6CD-FC49D01C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BCD78-49B8-4F34-9FDD-2F0E73FD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20596-8B09-4F27-B83D-73C7DD69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3B450-4EAD-41FC-BDD4-0A4154DA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AADEF-0011-40D9-B79A-0DFB6A2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9F0D1-BD2E-4BFA-9BDD-1EB8A404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EAF3-E7D2-4460-B90C-E767E823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8EC60-F5B9-4D2C-B01D-8F158E2C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BAE4D-8BFA-45AC-AB49-1244FA2E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872ED-C3C3-4EEC-BEB1-5FCCCCFE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DDC32-3EA9-41F0-B3AD-CBA6E60B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3C08E-DFFB-4F42-998C-24940E2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B6B18-9DE4-434D-B01D-6D55DC7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A5A5D-507A-48F3-B14F-8B75AC8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18F2D-1930-4E16-A8A0-F8E05E4D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B357A-AA09-4E4D-A485-5BB5974E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A0C1E-8CDC-4C81-A3D1-9E0736B7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D541-4EA6-4C58-BD24-7C76A872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BCCE2-F27F-4E81-9658-F8196A51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6CE02-CF83-4953-B145-8906D869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87001-6475-4B8C-ABEB-A9D42773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072B2-E3EA-44F3-A3F9-57AD9C09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F52B18-541B-455A-8B4C-B6BA4029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0E0C7-9957-4695-9D29-6C5DFD4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F6D4E-0A64-4823-95DA-F92D438D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55CD6-5472-451B-BDCA-2CD20386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7C445-91E9-4CC1-B95E-863684B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B7DE3-BC66-4618-A528-C14E2D9C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BB62-50EF-4F73-9E04-E58D7363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81624-23D2-41A7-9DB3-02B8D206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134E6-9D4B-4B9B-A586-A943CAE5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118C9-8514-4125-B4FD-F014B560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FDC62-3973-4FB7-9B08-9F20B4D7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B51759-00C5-4DA2-98F0-F933D1A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3DECFB-D347-4F7A-AB65-6C9606E1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8282C-7749-4FF8-863B-F2FFAB93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286D4-9784-4126-BDB3-1288E2F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643BF-AF49-4BB8-B849-16DF0ED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B5D408-336F-4E02-9A95-8672236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72E3-E12A-45D8-B84D-75E6417C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5C71C-9126-4292-A1E6-F498AEA5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ABB12-8234-4C21-A8EE-7476B5D8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175EE-CDB4-4F1F-85D7-8BB3C9F0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23CA-C7BA-45F2-9A49-CF98CD1F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C215-F916-411C-B1E1-035D9C2D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B76C-968E-4134-B642-2CC2B3AC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287E-1D65-43F2-962A-B3A55CF7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277-B350-4A48-8D44-897BC510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C13D-EB48-40E9-861F-B3F006CB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152B-A526-4A48-A69F-9F9B6B9E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8711-09FF-408A-B52D-9124B90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7A9B-C902-46B0-8B80-44F064C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A4F7-DF7D-463C-91E8-A137AD5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CE42-667F-49A8-9335-7749B9C0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591F1-E8DE-4F36-9781-C14A0FFC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3BC78-9EA6-4EC6-990B-43ECAC7D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FF21-CD1C-41AE-B2AB-76E8F16E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FD326-00E3-4391-AF7B-A86BE376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198-49B6-43A0-8043-52C645F6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04C6-ACB9-4719-B7F0-24515413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B238-EF31-4C7D-AE6C-E71ABCC9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DBD7-17A3-4E65-864E-4180056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0BA4-D5D6-438C-8F0F-57EE6148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4ED4-AA6F-4552-9C9E-6228929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1F71-DF4C-4C48-A1C2-468349B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5621-55A8-4111-9500-EA2F839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6884-D2F1-4BB7-8A80-00B5C0D2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BE7B-CE57-462C-AAB9-BCB46563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3907-C1AE-4E60-98A6-A3C6E362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B94-E984-4C82-9D18-D8CCCE31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D673-9B02-48C6-A7DD-8A82EB61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2159A-958A-4B48-A924-03E540AE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B129-079E-4FBB-94D1-CB3E78BE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7477B-AB2E-4A24-9B4B-2EB012F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A1913-AC1A-4AED-A512-69FA87C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A186-5E54-4487-9368-D273421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6BD9-A1FE-42DB-BC33-1268432B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57BAC-4172-4C98-9364-B17A5ABE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93A2B-9580-4548-9872-B5AD27E4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54495-7786-42A0-8E28-D166B0FA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3EC-DEA3-419A-A764-7703AEF3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8032-D88F-4B1B-A4A6-835026BB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370C8-2AAB-49F5-B592-605F5628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109C0-CA8D-4C77-968C-9A94D7D2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E00F9-BE45-492F-8EE5-1388B508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6C985-20AD-40E0-882D-75DED443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F061A-6E56-490D-AB0C-D807E025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D3121-779A-4FBD-AEE2-5B427B49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828F-6E48-46FA-B8BE-4F6CD90A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29BEC-A5E6-4477-B625-49913CB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A549-3BD9-4636-88D4-467A5D4C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57C-9AAA-4FC6-B9CB-6501FEC2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111CF-E716-4B0F-BEA4-F806D313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8D09-675B-4035-B560-B4B5E04D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B0DB9-8C71-4827-B9A1-86D63FE5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6626-6BD4-4C3D-AEE7-01FAB406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F94E2-CAA2-4D99-8E8E-ACB14C6A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FF206-652B-4437-95A4-03606B0F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81B99-D223-4F95-9152-685F680F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084E3-0439-4776-ADC3-159D7B5C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AE8A8-CB68-4351-8A3F-AD02D3F4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1A4FC-0912-4461-867A-2699AB2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ECB-59E0-43DA-9359-2204876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A7282-E601-474F-A438-722FF8B9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8DD9C-6064-47BA-89BA-C7A7A1C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7CCCC-5FC8-4208-829D-D28E730A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E3AC3-485D-498E-841E-660C9692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87DC2-DBB2-4C81-9077-67B6F11B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FF89E-6E58-4828-A9F5-344603C6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48C5F-D307-4F39-B2EE-3648AFFE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F19AF-8FA6-48F6-8DBB-F6CA8835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2545-0A8C-4660-B911-A37331A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4BDF9-DA8E-49AA-9D8D-044BF35D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2D7-F2A9-4CFF-9B7D-6FE1542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8A050-E964-46A8-B4FB-EFD0F235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99FE4-1956-4825-8E1B-F59E3046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467C6-FE1C-4E8B-ABC1-14B9E0C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8159-AEC5-4002-8A7E-7993C04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0EE9-55D5-410C-A60C-28D93B35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540A4-49A1-41AE-86D0-6A198483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2E9B-A409-4A04-8B97-7CF4E218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63D74-B7B4-4AC9-85A3-F7FCC81C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63990-FC84-4DDD-A717-CC4AA5BE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C87A6-BC79-4AEB-98EA-621E41E6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8836-8A5B-4D88-A60E-6B61FBD335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A2C2-AC46-462D-A141-BB0083C5D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C7C1-8DF8-4E4C-A130-E33587003C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A69-F36C-4F52-BA96-368C630B9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E1E2-ACF0-494A-A1A7-BBADC1888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496F-C4E1-446B-8032-EB8CFD020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4279-43F5-447B-9C11-247DE4CF7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D462-DBA0-4367-8601-980C5A2CD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3CDD-4AC9-4C84-A9CD-F3C33A4D3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8F93-21BF-4C82-B154-00BEE9653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BDD0-C846-40CB-89D6-3F8711E0C3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7DD-0065-4286-B1DC-79991ED207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543D-CD48-43DA-92D2-BD1E66ED1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212F-F6AA-4AC6-9859-A2286BC0D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79CE-D296-42D0-90A6-1C9104917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B500-3882-43C0-8691-A96714786A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A47C-E86E-41AA-ABB4-6C182EDF4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532-0066-415F-9277-287E755DD1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CCD3-9032-4A54-BEF9-CCE9DC3C6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A21A-79C7-4726-BB53-8F0342925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9DA-3B87-4A15-BDFB-E39A779F9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B5E0-F1CC-42C9-88CD-DB8E78097E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8D76-53E7-4013-B282-E91C6A32F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1CE-0D52-44CD-AD13-A2F35B3BD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B58E-2BC6-4EAB-8E1A-3F667A40C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B338-CC8E-484C-9832-BC02C7EEFA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CF15-6994-4CF6-B803-0208B31F2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C4D-B3CB-4929-ADAF-A3BD7A2344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16FE-5FE8-4E14-A429-CF322AFD04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65A5-0612-4B5A-BAF2-83B9E9527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A738-CF18-4C5F-8312-1AD7FF685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8CA2-5A16-45CC-9845-9FEE04862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1685-C1D9-452B-9450-C29340A5C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52A4-D4EA-4381-8B4F-F6771A253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1417-6BA4-44E8-B899-96E8E0D5B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C4DE-CD11-4E0C-877C-2A8C3EC0C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302F-DF12-48C1-8736-9540EC4B7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B24-AA01-4FE9-9744-58B0FC0906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A08A-5357-4A73-999F-098BB59CF9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29B3-65A8-4495-8F2D-3D815F9777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19000" y="2976480"/>
            <a:ext cx="75060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2231" descr=""/>
          <p:cNvPicPr/>
          <p:nvPr/>
        </p:nvPicPr>
        <p:blipFill>
          <a:blip r:embed="rId1"/>
          <a:stretch/>
        </p:blipFill>
        <p:spPr>
          <a:xfrm>
            <a:off x="938160" y="1420920"/>
            <a:ext cx="7267680" cy="2152440"/>
          </a:xfrm>
          <a:prstGeom prst="rect">
            <a:avLst/>
          </a:prstGeom>
          <a:ln w="0">
            <a:noFill/>
          </a:ln>
        </p:spPr>
      </p:pic>
      <p:pic>
        <p:nvPicPr>
          <p:cNvPr id="979" name="图片 52232" descr=""/>
          <p:cNvPicPr/>
          <p:nvPr/>
        </p:nvPicPr>
        <p:blipFill>
          <a:blip r:embed="rId2"/>
          <a:stretch/>
        </p:blipFill>
        <p:spPr>
          <a:xfrm>
            <a:off x="700200" y="3849840"/>
            <a:ext cx="7743600" cy="2171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4140360" y="198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687708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488952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6"/>
          <a:stretch/>
        </p:blipFill>
        <p:spPr>
          <a:xfrm>
            <a:off x="766764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7"/>
          <a:stretch/>
        </p:blipFill>
        <p:spPr>
          <a:xfrm>
            <a:off x="205092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8"/>
          <a:stretch/>
        </p:blipFill>
        <p:spPr>
          <a:xfrm>
            <a:off x="4702320" y="43657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9"/>
          <a:stretch/>
        </p:blipFill>
        <p:spPr>
          <a:xfrm>
            <a:off x="7451640" y="4422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0"/>
          <a:stretch/>
        </p:blipFill>
        <p:spPr>
          <a:xfrm>
            <a:off x="2138400" y="5084640"/>
            <a:ext cx="920880" cy="447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1"/>
          <a:stretch/>
        </p:blipFill>
        <p:spPr>
          <a:xfrm>
            <a:off x="5076720" y="5013360"/>
            <a:ext cx="920880" cy="447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2"/>
          <a:stretch/>
        </p:blipFill>
        <p:spPr>
          <a:xfrm>
            <a:off x="7870680" y="5013360"/>
            <a:ext cx="9208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38080"/>
            <a:ext cx="8601120" cy="5181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95640" y="35877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35877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195640" y="4221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96360" y="486900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564000" y="5516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308720" y="5516640"/>
            <a:ext cx="72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47640" y="1228680"/>
            <a:ext cx="7848720" cy="4400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5148360" y="191628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1692360" y="256392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5364000" y="2565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885080" y="380376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1187280" y="443700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5867280" y="4437000"/>
            <a:ext cx="17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76801" descr=""/>
          <p:cNvPicPr/>
          <p:nvPr/>
        </p:nvPicPr>
        <p:blipFill>
          <a:blip r:embed="rId1"/>
          <a:stretch/>
        </p:blipFill>
        <p:spPr>
          <a:xfrm>
            <a:off x="304920" y="857160"/>
            <a:ext cx="8534160" cy="566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11280" y="2305080"/>
            <a:ext cx="28810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468360" y="2938320"/>
            <a:ext cx="288144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88144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932360" y="231948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4789440" y="295272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4716360" y="358776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611280" y="482436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468360" y="545796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0"/>
          <a:stretch/>
        </p:blipFill>
        <p:spPr>
          <a:xfrm>
            <a:off x="395280" y="609300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8373" descr=""/>
          <p:cNvPicPr/>
          <p:nvPr/>
        </p:nvPicPr>
        <p:blipFill>
          <a:blip r:embed="rId1"/>
          <a:stretch/>
        </p:blipFill>
        <p:spPr>
          <a:xfrm>
            <a:off x="352440" y="853920"/>
            <a:ext cx="8439120" cy="57438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684360" y="2852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250920" y="485316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250920" y="551664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4572000" y="48672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4572000" y="553068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4572000" y="617868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7352" descr=""/>
          <p:cNvPicPr/>
          <p:nvPr/>
        </p:nvPicPr>
        <p:blipFill>
          <a:blip r:embed="rId1"/>
          <a:stretch/>
        </p:blipFill>
        <p:spPr>
          <a:xfrm>
            <a:off x="500040" y="2152800"/>
            <a:ext cx="8143920" cy="2552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395280" y="28814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572000" y="28814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4572000" y="35733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4500720" y="4221000"/>
            <a:ext cx="30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6324" descr=""/>
          <p:cNvPicPr/>
          <p:nvPr/>
        </p:nvPicPr>
        <p:blipFill>
          <a:blip r:embed="rId1"/>
          <a:stretch/>
        </p:blipFill>
        <p:spPr>
          <a:xfrm>
            <a:off x="281160" y="166680"/>
            <a:ext cx="8581680" cy="6524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1547640" y="2781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2714760" y="4076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1763640" y="53150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1187280" y="6180120"/>
            <a:ext cx="554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5300" descr=""/>
          <p:cNvPicPr/>
          <p:nvPr/>
        </p:nvPicPr>
        <p:blipFill>
          <a:blip r:embed="rId1"/>
          <a:stretch/>
        </p:blipFill>
        <p:spPr>
          <a:xfrm>
            <a:off x="514440" y="1000080"/>
            <a:ext cx="8115120" cy="485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2195640" y="20890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2239920" y="4437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971640" y="5315040"/>
            <a:ext cx="482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4276" descr=""/>
          <p:cNvPicPr/>
          <p:nvPr/>
        </p:nvPicPr>
        <p:blipFill>
          <a:blip r:embed="rId1"/>
          <a:stretch/>
        </p:blipFill>
        <p:spPr>
          <a:xfrm>
            <a:off x="295200" y="826920"/>
            <a:ext cx="8553600" cy="59151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826920" y="5603760"/>
            <a:ext cx="388944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539640" y="6308640"/>
            <a:ext cx="770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2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